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CF7-A848-4BA2-A89B-1CF22A41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B3B-7436-488D-9DA6-B425CC13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5CD-E7C5-49AB-A89F-2C0DF414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1E9-F063-4548-B55E-8C47BA10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9C2E-504C-43D5-8DC3-A852A1EF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BC5B-FB17-4964-A557-2919AACB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F83A-04EC-4400-820F-AB69DAC8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1F7F-A2CE-48FD-8C15-997F4343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0A97-64B8-4734-BBAD-9FDF5A1B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B458-EE33-4BBC-8DBC-A5CA1526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8B18-5B71-47BF-B648-E0AF6FB5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BC9-C0C0-4F63-AA45-9FBB8752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3BDE-6651-46EA-9F78-22B3E43C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CDD5-2FCD-4536-A1D0-8AD14A9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85EE-C0F3-427F-AC54-2571724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63ED-54F5-4970-AF69-16FA7B8F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FDC0-C96F-4974-BD85-E1FCE1C1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282-4D71-4E48-B883-63D25AA9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FE1-E0C8-4918-9C3A-751FBEB1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D52-5617-40A0-9192-B256A45B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B37-0592-4F33-9650-1EE5B3EA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0A61-723E-416B-9179-11E9FA71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365-70BD-4895-A194-49B1A991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E6E-CDF2-4BF0-AA02-4611B7A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A3A6-FC7C-41C8-84B3-32B5976DC5B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6D01-561C-42B7-9856-9B032A31EAFA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지식에 대한 짧은 고찰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7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들어가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원리의 자기순환적 성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원리 및 보편개념의 위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관찰과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관찰과 발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식과 현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나가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관찰과 발견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1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아이의 한글 배우기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엄마 아빠 할머니 할아버지 삼촌 정경림 박중신 정동욱 정현욱 박은빈 정수일 유성춘 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어느 순간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뱘” “뷁” 등의 단어 쓰면서 즐거워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어들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한글 조합규칙 깨달음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가르쳐주지 않아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!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가르쳐 줄 수도 없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발견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깨달음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비논리적 과정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상상력 또는 창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컴퓨터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전의 단어의 발음과 글자 넣어줘도 조합규칙을 스스로 알아낼 수 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한글규칙 습득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지식 습득 속도 엄청나게 향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과학적 발견 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지식의 새로운 지평 열어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관찰과 발견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2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지식의 새 지평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새로운 체계의 발견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측 불가능한 시간 걸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코페르니쿠스 이후 뉴턴 사이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뉴턴 이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그의 체계에 따라 세계를 재해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축적된 지식이 다시 뉴턴 체계를 위협하는 시기 </a:t>
            </a:r>
            <a:r>
              <a:rPr b="0" lang="en-US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지식의 새로운 순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지식과 현실세계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양자역학의 해석 문제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양자역학적 상태 </a:t>
            </a:r>
            <a:r>
              <a:rPr b="0" lang="en-US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입자도 파동도 아닌 무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고전 역학적인 입자와 파동의 개념을 이해하고 난 후</a:t>
            </a:r>
            <a:r>
              <a:rPr b="0" lang="en-US" sz="20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다시 이를 부정해야만 하는 괴이한 과정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이러한 작업 없이 ‘상태’는 방정식의 기호에 불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양자역학의 이해 </a:t>
            </a:r>
            <a:r>
              <a:rPr b="0" lang="en-US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‘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잘못된’ 고전 역학과의 비교 및 부정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즉</a:t>
            </a:r>
            <a:r>
              <a:rPr b="0" lang="en-US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중학교 때의 물리 교육이 거짓말만은 아니며 필요한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겹겹의 층으로 이루어진 경험과 의미들의 얼개는 보다 추상적인 개념을 현실세계와 이어주는 역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겹겹의 층들을 해체할 경우</a:t>
            </a:r>
            <a:r>
              <a:rPr b="0" lang="en-US" sz="2000" spc="-1" strike="noStrike">
                <a:solidFill>
                  <a:srgbClr val="000000"/>
                </a:solidFill>
                <a:latin typeface="HCI Poppy"/>
                <a:ea typeface="휴먼명조"/>
              </a:rPr>
              <a:t>, ‘</a:t>
            </a:r>
            <a:r>
              <a:rPr b="0" lang="zh-CN" sz="2000" spc="-1" strike="noStrike">
                <a:solidFill>
                  <a:srgbClr val="000000"/>
                </a:solidFill>
                <a:latin typeface="HCI Poppy"/>
                <a:ea typeface="휴먼명조"/>
              </a:rPr>
              <a:t>상태’ </a:t>
            </a:r>
            <a:r>
              <a:rPr b="0" lang="en-US" sz="2000" spc="-1" strike="noStrike">
                <a:solidFill>
                  <a:srgbClr val="000000"/>
                </a:solidFill>
                <a:latin typeface="HCI Poppy"/>
                <a:ea typeface="휴먼명조"/>
              </a:rPr>
              <a:t>, m, F 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등의 의미는 사라지며</a:t>
            </a:r>
            <a:r>
              <a:rPr b="0" lang="en-US" sz="20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휴먼명조"/>
                <a:ea typeface="휴먼명조"/>
              </a:rPr>
              <a:t>물리학은 허공에 떠있는 자기만의 체계가 되어버릴 것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맺음말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#1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우리의 인식은 실재를 복사하듯 그대로 반영하지 못한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대신 추상적인 개념을 이용해 그것들을 재구성해 실재를 이해할 뿐이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그러한 인식적 기반 위에 있는 지식에는 오류와 모순이 내재해 있을 수 있고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자기순환적인 논리가 숨어있게 마련이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경험과 의미의 층들이 겹겹이 포개어진 불분명한 개념들 또한 지식의 기반을 이루고 있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그러한 불안한 기반 위에 서있는 인간의 지식은 역설적으로 많은 가능성 또한 가지고 있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맺음말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#2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튜링머신은 연역적 추론만이 가능하며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수집된 정보를 이용해 절대 그보다 상위의 개념을 만들어낼 수 없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하지만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인간은 사후에 틀렸다는 평가를 받을 지는 몰라도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구체적 정보들 속에서 의미있는 무언가를 뽑아내는 능력이 있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그러한 인간 인식의 특성은 인간 지식의 가능성과 한계를 말해주고 있는 듯하다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제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원리의 자기순환적 성격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1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고전 역학의 제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원리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7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의 제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법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F=m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F=ma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는 경험법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는 착각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질량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m)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힘에 대한 관성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힘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F)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물체의 운동을 변화시키는 원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F=ma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체가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F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의 정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F=ma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고전 역학 체계의 공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내적으로 자기순환적인 논리체계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믿는 순간 엄청나게 많은 현상들이 설명 가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제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원리의 자기순환적 성격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2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일상적인 개념들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생각 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궁리함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사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궁리 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깊이 생각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사고 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생각함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궁리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언어 하나하나에 시비를 걸기 시작하면 끝이 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반대로 그 언어를 믿고 따르면 사람들과 소통을 할 수 있고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세계에 대해 이런저런 해석들을 할 수가 있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제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원리 및 보편개념의 위상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1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플라톤의 이데아론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보편개념 없인 세계 이해 불가능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보편개념의 생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소멸 가능성 모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보편개념의 절대화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이데아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보편적인 고양이 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(universal cattines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고유명사 </a:t>
            </a:r>
            <a:r>
              <a:rPr b="0" lang="en-US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개별 사물들을 지칭만 할 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일반명사 </a:t>
            </a:r>
            <a:r>
              <a:rPr b="0" lang="en-US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대상에 의미를 부여</a:t>
            </a:r>
            <a:r>
              <a:rPr b="0" lang="en-US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지식 형성 가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제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원리 및 보편개념의 위상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2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개별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특수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보편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" name="icon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제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원리 및 보편개념의 위상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3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보편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상징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)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과 의미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미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웃음…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구체성 버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의미 획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최고의 상징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언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emoticon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552456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icon2" descr=""/>
          <p:cNvPicPr/>
          <p:nvPr/>
        </p:nvPicPr>
        <p:blipFill>
          <a:blip r:embed="rId2"/>
          <a:stretch/>
        </p:blipFill>
        <p:spPr>
          <a:xfrm>
            <a:off x="5257800" y="3352680"/>
            <a:ext cx="21286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관찰과 인식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1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아이의 그림 그리기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pic>
        <p:nvPicPr>
          <p:cNvPr id="114" name="agypt2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3213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관찰과 인식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2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일반인과 화가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..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반인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윤곽선에 집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그 안에 눈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코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입을 그려 넣으려고 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이런 식으로는 절대 좋은 그림이 나올 수 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화가 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구도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명암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면</a:t>
            </a:r>
            <a:r>
              <a:rPr b="0" lang="ko-KR" sz="2400" spc="-1" strike="noStrike">
                <a:solidFill>
                  <a:srgbClr val="000000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비율 등의 개념체계 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목적에 맞는 적절한 개념체계 필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관상쟁이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의사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생물학자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물리학자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개념체계 없이는 의미있는 관찰 불가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굴림"/>
              </a:rPr>
              <a:t>관찰과 인식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</a:rPr>
              <a:t>#2</a:t>
            </a:r>
            <a:br>
              <a:rPr sz="2000"/>
            </a:b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인식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보편적 현상의 특수한 경우로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추상적 개념을 통해 재구성해 대상을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개별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보편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특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구체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추상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추상적 개념을 통해 재구성한 구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인식과정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개념체계 선택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&amp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모형화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&amp;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추론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재구성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계절의 변화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: (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요정론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계절의 요정 슈가가 계절을 바꿔줌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. (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프톨레마이오스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태양의 공전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비스듬한 황도의 궤도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태양의 고도차이로 계절 이해 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코페르니쿠스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지구의 공전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공전궤도면에 비스듬한 자전축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명조"/>
                <a:ea typeface="휴먼명조"/>
              </a:rPr>
              <a:t>태양의 고도차이로 계절 이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5:03:19Z</dcterms:created>
  <dc:creator>osaka</dc:creator>
  <dc:description/>
  <dc:language>en-US</dc:language>
  <cp:lastModifiedBy>osaka</cp:lastModifiedBy>
  <dcterms:modified xsi:type="dcterms:W3CDTF">2004-12-14T18:44:04Z</dcterms:modified>
  <cp:revision>4</cp:revision>
  <dc:subject/>
  <dc:title>지식에 대한 짧은 고찰</dc:title>
</cp:coreProperties>
</file>